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8.jpeg" ContentType="image/jpeg"/>
  <Override PartName="/ppt/media/image17.png" ContentType="image/pn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B0F21-1473-4772-8EB8-F9E43EF73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08424-DE3E-47C9-9F6F-AE065BB04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10EBA-EEF1-42B2-BC4C-14EB5C1E0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98007-5C2E-4EFC-B44A-E0BFDC24C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AA208-620A-4280-B4A4-518081EED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438DF-0D4D-4FE6-93D5-31A9BC4C5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EA98D-1AD2-4548-93D2-628BE4A99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70BD2-42E2-4844-B12B-BC732114C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9E2C9-0FB0-4C89-AC27-7168C469E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0CBC3-272A-44CB-A655-6EC05A6D7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E0368-8F62-4F3D-B50E-6AC273AE6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8A92C-2123-42B9-84A6-021F2D53F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8BF36-3AB0-44DC-BE2D-5D9815793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BF2A0-4082-4948-9DA2-B83DFBB86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32A7F-A417-48DD-92A3-3DE54141E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636F0-F431-448D-8318-DC92D5DE0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E863E-FD32-4E7B-9D42-F76D5E38E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224289-869E-467A-B76A-D718307BC0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E00451-1E46-413F-A2B9-640C41C022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1B44F-3A29-46E0-98E7-84113944E8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B247B7-373C-4646-85FC-AAB92A9AF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8474C6-E206-4BE6-B95D-CA62C86C3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6D08E-C04A-4540-8528-F5EA29410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F333A1-2C16-4AE9-94D8-6A4970589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45381-7C3D-4464-AB40-672F17F30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77E33-921E-42C3-B16A-919ED946C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EA740-C459-4329-9B33-846F38215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CC3B0C-C9E7-4503-B977-50DC4DB97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196B2C-2F69-4F39-9FCD-C6FF5B40AD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B18248-1D4A-4592-BA91-C8BACB5358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8993DF-5A2C-4CFF-B6D5-BFE786B6C8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59C3D-03D0-4AD4-90C9-F96C29274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F6A80F-6BA4-4B36-AA66-FC1E4282CD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BFA58-07A6-4874-96B5-05E874990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1C8B8-1C97-480C-935F-313CB789B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7BBBEC-74F9-42C9-B671-076AE984CA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4A506-EEE9-4606-B6BA-82087E3688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CEF759-13A8-45D9-99E7-50855437E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AA392-904D-4F11-B121-6545601FA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5C85F-CBB4-4860-830D-A9E868B21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8D2103-C9BF-4565-9AA6-546338B01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9C03B5-EA73-4AD6-B75F-72DC65E868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CD9964-E8AE-431E-9166-F3A002E27A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DD29A7-B5EA-4DEF-8434-FE586719BD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95AC4-D2DC-4A6F-8F97-5827A2B38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C24A40-6599-4355-B141-D7D42ECE7F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BE6EE7-5B94-4CFF-A8A9-A486D0739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96132F-8BC4-4081-B5DA-CE6E1B281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0044AA-24B7-4655-8610-5BB93DA462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625D9E-5FC0-4C55-A6EB-8FEC160F35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6456F-7DE5-4173-A0F5-D97C1ECD83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29A75-8BD5-45AA-BF05-6A2828C14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313FE-44E1-40E0-A092-DAEE717D7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54E7D-E60F-49E4-A027-9910139EFB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90BE50-D83C-478A-BBCC-1F8B0456C4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D6D79-F3DA-41C3-A824-043F034EE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B730D0-CF37-424B-9109-E92B6868C3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81A0B2-5E78-47FE-96F9-0C0D1D45A9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694826-E24D-46D0-ADE9-3701749EF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EE2A1A-FA5D-4BF3-9F23-5AA451A33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A8F9E2-E173-4920-9A4C-A7846FE56F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D93097-FEA7-4B62-9FEA-6219D10933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3B284-3F2F-4BD3-96BA-AE97CC48C9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EA88F8-F95A-44C4-8E12-310763C27D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50BE3D-D24B-4096-A5C8-4A8CF321F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CBAEF-23F3-48C0-922E-E1EC303D0E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555EC-4DEE-4F63-BCC6-149D1B0CB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E6166-AE81-4117-98B8-7755A1E4E6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7A9A6B-0BAA-406F-97AD-9FE6A7F94C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218C43-E250-481D-AE0E-F9A9DBC3B1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516EEC-6986-4DF3-82A5-3C11A4EB11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4B2EC1-B0AD-4948-A9BA-71181AA7CA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90A132-A18F-49A5-BF8C-9AC16D5841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72F97D-0046-434C-9848-A265D557B9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0E833A-1758-408A-A427-F488B74B26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CCB2CE-0212-44FD-98F8-BD98A79A01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73E031-5F43-4559-A3A8-B423557A8C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18465-098D-4775-8C91-E7F9FD6C0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0E9C25-EE40-40BF-812D-58A7E9885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99734-8637-46AC-8D09-9F2F8E3514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2A1731-FFA2-4CEB-9E5D-53A3822DD1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FA1A29-DF71-425B-871C-B1D394BBFA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F298D8-6025-4F30-B4DA-DE13F02A93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F21C0-B277-451D-9C8C-AD337301E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D596-2B5B-49D4-AF4F-A2302714E617}"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C1FE-5D3C-4C7A-B308-2CBC3E4E93F1}" type="slidenum">
              <a:rPr b="0" lang="en-CA"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47BB-1E18-4E98-8C5A-DADF763B5287}"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07C6-98D6-49CF-A73E-F1A2E7C92FCB}" type="slidenum">
              <a:rPr b="0" lang="en-CA"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6FCD-E437-4BD3-92E5-AE75D31CC3D7}"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6479-84CA-4018-AB36-DBD170CF2639}" type="slidenum">
              <a:rPr b="0" lang="en-CA"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1DF2-B309-44A0-BB47-A967276917B7}" type="slidenum">
              <a:rPr b="0" lang="en-CA"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hyperlink" Target="http://www.runnersworld.com/tag/achilles-tendinitis" TargetMode="External"/><Relationship Id="rId2" Type="http://schemas.openxmlformats.org/officeDocument/2006/relationships/hyperlink" Target="http://www.livestrong.com/article/548392-what-muscles-does-dancing-ballet-strengthen/" TargetMode="Externa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36400" y="768240"/>
            <a:ext cx="8467920" cy="1481400"/>
          </a:xfrm>
          <a:prstGeom prst="rect">
            <a:avLst/>
          </a:prstGeom>
          <a:ln w="0">
            <a:noFill/>
          </a:ln>
        </p:spPr>
      </p:pic>
      <p:pic>
        <p:nvPicPr>
          <p:cNvPr id="302" name="Subtitle 2" descr=""/>
          <p:cNvPicPr/>
          <p:nvPr/>
        </p:nvPicPr>
        <p:blipFill>
          <a:blip r:embed="rId2"/>
          <a:stretch/>
        </p:blipFill>
        <p:spPr>
          <a:xfrm>
            <a:off x="536400" y="2170080"/>
            <a:ext cx="8174160" cy="1841400"/>
          </a:xfrm>
          <a:prstGeom prst="rect">
            <a:avLst/>
          </a:prstGeom>
          <a:ln w="0">
            <a:noFill/>
          </a:ln>
        </p:spPr>
      </p:pic>
      <p:pic>
        <p:nvPicPr>
          <p:cNvPr id="303" name="Picture 7" descr="https://scontent-a-ord.xx.fbcdn.net/hphotos-xaf1/v/l/t1.0-9/1922298_10202964545850944_672146453_n.jpg?oh=d48c3468699cf3b721da707724a320e5&amp;oe=54AF567F"/>
          <p:cNvPicPr/>
          <p:nvPr/>
        </p:nvPicPr>
        <p:blipFill>
          <a:blip r:embed="rId3"/>
          <a:stretch/>
        </p:blipFill>
        <p:spPr>
          <a:xfrm>
            <a:off x="684360" y="3068640"/>
            <a:ext cx="3127320" cy="31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165240" y="268200"/>
            <a:ext cx="7461000" cy="1371600"/>
          </a:xfrm>
          <a:prstGeom prst="rect">
            <a:avLst/>
          </a:prstGeom>
          <a:ln w="0">
            <a:noFill/>
          </a:ln>
        </p:spPr>
      </p:pic>
      <p:sp>
        <p:nvSpPr>
          <p:cNvPr id="305" name="PlaceHolder 1"/>
          <p:cNvSpPr>
            <a:spLocks noGrp="1"/>
          </p:cNvSpPr>
          <p:nvPr>
            <p:ph/>
          </p:nvPr>
        </p:nvSpPr>
        <p:spPr>
          <a:xfrm>
            <a:off x="380520" y="1633320"/>
            <a:ext cx="3886200" cy="496404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Dance at a competitive level is an activity that involves a lot of flexibility, intensity and ground pounding movements.  In order to have proper technique it becomes very physically demanding. </a:t>
            </a:r>
            <a:endParaRPr b="0" lang="en-US" sz="2000" spc="-1" strike="noStrike">
              <a:solidFill>
                <a:srgbClr val="ffffff"/>
              </a:solidFill>
              <a:latin typeface="Century Gothic"/>
            </a:endParaRPr>
          </a:p>
        </p:txBody>
      </p:sp>
      <p:sp>
        <p:nvSpPr>
          <p:cNvPr id="306"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8" name="Picture 17" descr="https://fbcdn-sphotos-e-a.akamaihd.net/hphotos-ak-xaf1/v/t1.0-9/1012579_10203254804827237_5833196342478069725_n.jpg?oh=da589b7fe472db474026841d1f5a6418&amp;oe=54D1360A&amp;__gda__=1421281981_cce4eb467f7e598f6823cc132d89a88d"/>
          <p:cNvPicPr/>
          <p:nvPr/>
        </p:nvPicPr>
        <p:blipFill>
          <a:blip r:embed="rId2"/>
          <a:stretch/>
        </p:blipFill>
        <p:spPr>
          <a:xfrm>
            <a:off x="5508720" y="2421000"/>
            <a:ext cx="3319200" cy="2217600"/>
          </a:xfrm>
          <a:prstGeom prst="rect">
            <a:avLst/>
          </a:prstGeom>
          <a:ln w="0">
            <a:noFill/>
          </a:ln>
        </p:spPr>
      </p:pic>
      <p:pic>
        <p:nvPicPr>
          <p:cNvPr id="309" name="Picture 19" descr="https://fbcdn-sphotos-e-a.akamaihd.net/hphotos-ak-xpf1/v/t1.0-9/10002924_10202964553931146_858157441_n.jpg?oh=d684025caa4fd0f9bb946bb7f84fd313&amp;oe=54BA0464&amp;__gda__=1417916089_8273cb55c8bdca44566efcd78ff4bcc2"/>
          <p:cNvPicPr/>
          <p:nvPr/>
        </p:nvPicPr>
        <p:blipFill>
          <a:blip r:embed="rId3"/>
          <a:stretch/>
        </p:blipFill>
        <p:spPr>
          <a:xfrm>
            <a:off x="2987640" y="3933720"/>
            <a:ext cx="3600360" cy="27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520" y="271440"/>
            <a:ext cx="7239240" cy="136224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ff5c9c"/>
              </a:solidFill>
              <a:latin typeface="Century Gothic"/>
            </a:endParaRPr>
          </a:p>
        </p:txBody>
      </p:sp>
      <p:sp>
        <p:nvSpPr>
          <p:cNvPr id="311" name="PlaceHolder 2"/>
          <p:cNvSpPr>
            <a:spLocks noGrp="1"/>
          </p:cNvSpPr>
          <p:nvPr>
            <p:ph/>
          </p:nvPr>
        </p:nvSpPr>
        <p:spPr>
          <a:xfrm>
            <a:off x="380520" y="1633680"/>
            <a:ext cx="3886200" cy="2286000"/>
          </a:xfrm>
          <a:prstGeom prst="rect">
            <a:avLst/>
          </a:prstGeom>
          <a:noFill/>
          <a:ln w="0">
            <a:noFill/>
          </a:ln>
        </p:spPr>
        <p:txBody>
          <a:bodyPr anchor="t">
            <a:normAutofit fontScale="89000"/>
          </a:bodyPr>
          <a:p>
            <a:pPr marL="47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Dance puts a lot of stress on many parts of your body and involves every muscle group possible at some point in time, especially your lower body and feet.  The best way to prevent those injuries is to stretch and strengthen these muscles.</a:t>
            </a:r>
            <a:endParaRPr b="0" lang="en-US" sz="2000" spc="-1" strike="noStrike">
              <a:solidFill>
                <a:srgbClr val="ffffff"/>
              </a:solidFill>
              <a:latin typeface="Century Gothic"/>
            </a:endParaRPr>
          </a:p>
        </p:txBody>
      </p:sp>
      <p:pic>
        <p:nvPicPr>
          <p:cNvPr id="312" name="Picture 2" descr="https://scontent-a-ord.xx.fbcdn.net/hphotos-xap1/v/t1.0-9/1962666_10203023934975635_2077264907_n.jpg?oh=b14be756ce7bf6906ef52cfe0531a96a&amp;oe=54BCAB48"/>
          <p:cNvPicPr/>
          <p:nvPr/>
        </p:nvPicPr>
        <p:blipFill>
          <a:blip r:embed="rId1"/>
          <a:stretch/>
        </p:blipFill>
        <p:spPr>
          <a:xfrm>
            <a:off x="4932360" y="333360"/>
            <a:ext cx="3728880" cy="2808360"/>
          </a:xfrm>
          <a:prstGeom prst="rect">
            <a:avLst/>
          </a:prstGeom>
          <a:ln w="0">
            <a:noFill/>
          </a:ln>
        </p:spPr>
      </p:pic>
      <p:pic>
        <p:nvPicPr>
          <p:cNvPr id="313" name="Picture 4" descr="https://fbcdn-sphotos-b-a.akamaihd.net/hphotos-ak-xfp1/v/t1.0-9/1975122_10202964543930896_329230209_n.jpg?oh=ac837f44373abb558244eb0a1d2774df&amp;oe=54C9CD13&amp;__gda__=1421518409_757c8f89f7f48892aeb0f4557c451680"/>
          <p:cNvPicPr/>
          <p:nvPr/>
        </p:nvPicPr>
        <p:blipFill>
          <a:blip r:embed="rId2"/>
          <a:stretch/>
        </p:blipFill>
        <p:spPr>
          <a:xfrm>
            <a:off x="5076720" y="3645000"/>
            <a:ext cx="3451320" cy="287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65240" y="268200"/>
            <a:ext cx="7461000" cy="1371600"/>
          </a:xfrm>
          <a:prstGeom prst="rect">
            <a:avLst/>
          </a:prstGeom>
          <a:ln w="0">
            <a:noFill/>
          </a:ln>
        </p:spPr>
      </p:pic>
      <p:sp>
        <p:nvSpPr>
          <p:cNvPr id="315" name="PlaceHolder 1"/>
          <p:cNvSpPr>
            <a:spLocks noGrp="1"/>
          </p:cNvSpPr>
          <p:nvPr>
            <p:ph/>
          </p:nvPr>
        </p:nvSpPr>
        <p:spPr>
          <a:xfrm>
            <a:off x="380880" y="1633320"/>
            <a:ext cx="3183120" cy="474804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Injuries in the foot and ankle are very common. The Gastrocnemius and soleus muscles are so important in dance and are activated in all basic movements.  Together the two muscles form the gastroc-soleus muscle group.</a:t>
            </a:r>
            <a:endParaRPr b="0" lang="en-US" sz="2000" spc="-1" strike="noStrike">
              <a:solidFill>
                <a:srgbClr val="ffffff"/>
              </a:solidFill>
              <a:latin typeface="Century Gothic"/>
            </a:endParaRPr>
          </a:p>
        </p:txBody>
      </p:sp>
      <p:pic>
        <p:nvPicPr>
          <p:cNvPr id="316" name="Picture 6" descr="calf-workout-routine-calf-anatomy.jpg"/>
          <p:cNvPicPr/>
          <p:nvPr/>
        </p:nvPicPr>
        <p:blipFill>
          <a:blip r:embed="rId2"/>
          <a:stretch/>
        </p:blipFill>
        <p:spPr>
          <a:xfrm>
            <a:off x="3780000" y="2060640"/>
            <a:ext cx="4968720" cy="32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65240" y="268200"/>
            <a:ext cx="7461000" cy="1371600"/>
          </a:xfrm>
          <a:prstGeom prst="rect">
            <a:avLst/>
          </a:prstGeom>
          <a:ln w="0">
            <a:noFill/>
          </a:ln>
        </p:spPr>
      </p:pic>
      <p:sp>
        <p:nvSpPr>
          <p:cNvPr id="318" name="PlaceHolder 1"/>
          <p:cNvSpPr>
            <a:spLocks noGrp="1"/>
          </p:cNvSpPr>
          <p:nvPr>
            <p:ph/>
          </p:nvPr>
        </p:nvSpPr>
        <p:spPr>
          <a:xfrm>
            <a:off x="380520" y="1633680"/>
            <a:ext cx="3886200" cy="228600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Every time a dancer points their foot or rises up unto their toes(plantar flexion), and jumps they are being acted upon. </a:t>
            </a:r>
            <a:endParaRPr b="0" lang="en-US" sz="2000" spc="-1" strike="noStrike">
              <a:solidFill>
                <a:srgbClr val="ffffff"/>
              </a:solidFill>
              <a:latin typeface="Century Gothic"/>
            </a:endParaRPr>
          </a:p>
        </p:txBody>
      </p:sp>
      <p:pic>
        <p:nvPicPr>
          <p:cNvPr id="319" name="Picture 5" descr="http://balletclassroom.files.wordpress.com/2012/03/ballet-releve.jpg"/>
          <p:cNvPicPr/>
          <p:nvPr/>
        </p:nvPicPr>
        <p:blipFill>
          <a:blip r:embed="rId2"/>
          <a:stretch/>
        </p:blipFill>
        <p:spPr>
          <a:xfrm>
            <a:off x="250920" y="4653000"/>
            <a:ext cx="2857320" cy="1857240"/>
          </a:xfrm>
          <a:prstGeom prst="rect">
            <a:avLst/>
          </a:prstGeom>
          <a:ln w="0">
            <a:noFill/>
          </a:ln>
        </p:spPr>
      </p:pic>
      <p:pic>
        <p:nvPicPr>
          <p:cNvPr id="320" name="Picture 7" descr="http://media.merchantcircle.com/10621443/Pointed%20Foot_medium.jpeg"/>
          <p:cNvPicPr/>
          <p:nvPr/>
        </p:nvPicPr>
        <p:blipFill>
          <a:blip r:embed="rId3"/>
          <a:stretch/>
        </p:blipFill>
        <p:spPr>
          <a:xfrm>
            <a:off x="5724360" y="1773360"/>
            <a:ext cx="3048120" cy="2009520"/>
          </a:xfrm>
          <a:prstGeom prst="rect">
            <a:avLst/>
          </a:prstGeom>
          <a:ln w="0">
            <a:noFill/>
          </a:ln>
        </p:spPr>
      </p:pic>
      <p:pic>
        <p:nvPicPr>
          <p:cNvPr id="321" name="Picture 13" descr="https://fbcdn-sphotos-g-a.akamaihd.net/hphotos-ak-xpa1/v/t1.0-9/10153061_10203254470018867_1115747723123872350_n.jpg?oh=25da07da3a1effcccbdc882ee7c0e1f8&amp;oe=54B76D8F&amp;__gda__=1422518681_1016755d83eb2760ec876f650fbf009c"/>
          <p:cNvPicPr/>
          <p:nvPr/>
        </p:nvPicPr>
        <p:blipFill>
          <a:blip r:embed="rId4"/>
          <a:stretch/>
        </p:blipFill>
        <p:spPr>
          <a:xfrm>
            <a:off x="2916360" y="3357720"/>
            <a:ext cx="3625560" cy="242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65240" y="268200"/>
            <a:ext cx="7461000" cy="1371600"/>
          </a:xfrm>
          <a:prstGeom prst="rect">
            <a:avLst/>
          </a:prstGeom>
          <a:ln w="0">
            <a:noFill/>
          </a:ln>
        </p:spPr>
      </p:pic>
      <p:sp>
        <p:nvSpPr>
          <p:cNvPr id="323" name="PlaceHolder 1"/>
          <p:cNvSpPr>
            <a:spLocks noGrp="1"/>
          </p:cNvSpPr>
          <p:nvPr>
            <p:ph/>
          </p:nvPr>
        </p:nvSpPr>
        <p:spPr>
          <a:xfrm>
            <a:off x="380520" y="1633680"/>
            <a:ext cx="3830760" cy="3595680"/>
          </a:xfrm>
          <a:prstGeom prst="rect">
            <a:avLst/>
          </a:prstGeom>
          <a:noFill/>
          <a:ln w="0">
            <a:noFill/>
          </a:ln>
        </p:spPr>
        <p:txBody>
          <a:bodyPr anchor="t">
            <a:normAutofit fontScale="97000"/>
          </a:bodyPr>
          <a:p>
            <a:pPr marL="5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entury Gothic"/>
              </a:rPr>
              <a:t>Stairs stretch:</a:t>
            </a:r>
            <a:endParaRPr b="0" lang="en-US" sz="2000" spc="-1" strike="noStrike">
              <a:solidFill>
                <a:srgbClr val="ffffff"/>
              </a:solidFill>
              <a:latin typeface="Century Gothic"/>
            </a:endParaRPr>
          </a:p>
          <a:p>
            <a:pPr marL="5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Stand with your toes on the edge of a stair. Shift your body weight over your heels then drop your heels down as far as possible, stretching out your achilles tendon. </a:t>
            </a:r>
            <a:endParaRPr b="0" lang="en-US" sz="2000" spc="-1" strike="noStrike">
              <a:solidFill>
                <a:srgbClr val="ffffff"/>
              </a:solidFill>
              <a:latin typeface="Century Gothic"/>
            </a:endParaRPr>
          </a:p>
          <a:p>
            <a:pPr marL="5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Hold for 15 - 20 seconds, repeat 4 times.</a:t>
            </a:r>
            <a:endParaRPr b="0" lang="en-US" sz="2000" spc="-1" strike="noStrike">
              <a:solidFill>
                <a:srgbClr val="ffffff"/>
              </a:solidFill>
              <a:latin typeface="Century Gothic"/>
            </a:endParaRPr>
          </a:p>
        </p:txBody>
      </p:sp>
      <p:pic>
        <p:nvPicPr>
          <p:cNvPr id="324" name="Picture 2" descr="Stand with your toes on the edge of a stair. Shift your body weight over your heels then drop your heels down as far as possible, stretching out your achilles tendon. Hold for 15 - 20 seconds, repeat 4 times. "/>
          <p:cNvPicPr/>
          <p:nvPr/>
        </p:nvPicPr>
        <p:blipFill>
          <a:blip r:embed="rId2"/>
          <a:stretch/>
        </p:blipFill>
        <p:spPr>
          <a:xfrm>
            <a:off x="4788000" y="2133720"/>
            <a:ext cx="3973320" cy="32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65240" y="268200"/>
            <a:ext cx="7461000" cy="1371600"/>
          </a:xfrm>
          <a:prstGeom prst="rect">
            <a:avLst/>
          </a:prstGeom>
          <a:ln w="0">
            <a:noFill/>
          </a:ln>
        </p:spPr>
      </p:pic>
      <p:sp>
        <p:nvSpPr>
          <p:cNvPr id="326" name="PlaceHolder 1"/>
          <p:cNvSpPr>
            <a:spLocks noGrp="1"/>
          </p:cNvSpPr>
          <p:nvPr>
            <p:ph/>
          </p:nvPr>
        </p:nvSpPr>
        <p:spPr>
          <a:xfrm>
            <a:off x="380520" y="1633320"/>
            <a:ext cx="7286760" cy="172404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entury Gothic"/>
              </a:rPr>
              <a:t>Downward Dog</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Leaning into your hands while trying to push your feet on the floor gives you a great calf stretch.  </a:t>
            </a:r>
            <a:endParaRPr b="0" lang="en-US" sz="2000" spc="-1" strike="noStrike">
              <a:solidFill>
                <a:srgbClr val="ffffff"/>
              </a:solidFill>
              <a:latin typeface="Century Gothic"/>
            </a:endParaRPr>
          </a:p>
        </p:txBody>
      </p:sp>
      <p:pic>
        <p:nvPicPr>
          <p:cNvPr id="327" name="Picture 2" descr="http://blog.codyapp.com/wp-content/uploads/2014/03/downward-dog-technique1.jpg"/>
          <p:cNvPicPr/>
          <p:nvPr/>
        </p:nvPicPr>
        <p:blipFill>
          <a:blip r:embed="rId2"/>
          <a:stretch/>
        </p:blipFill>
        <p:spPr>
          <a:xfrm>
            <a:off x="1476360" y="3213000"/>
            <a:ext cx="5832360" cy="323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271440"/>
            <a:ext cx="7239240" cy="136224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ff5c9c"/>
              </a:solidFill>
              <a:latin typeface="Century Gothic"/>
            </a:endParaRPr>
          </a:p>
        </p:txBody>
      </p:sp>
      <p:sp>
        <p:nvSpPr>
          <p:cNvPr id="329" name="PlaceHolder 2"/>
          <p:cNvSpPr>
            <a:spLocks noGrp="1"/>
          </p:cNvSpPr>
          <p:nvPr>
            <p:ph/>
          </p:nvPr>
        </p:nvSpPr>
        <p:spPr>
          <a:xfrm>
            <a:off x="380520" y="1633680"/>
            <a:ext cx="3886200" cy="228600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entury Gothic"/>
              </a:rPr>
              <a:t>Dancer specific:</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 </a:t>
            </a:r>
            <a:r>
              <a:rPr b="0" lang="en-CA" sz="2000" spc="-1" strike="noStrike">
                <a:solidFill>
                  <a:srgbClr val="ffffff"/>
                </a:solidFill>
                <a:latin typeface="Century Gothic"/>
              </a:rPr>
              <a:t>Dancers tend to increase the stretch by turning it into  what's called the “needle”, and working on your flexibility at the same time.</a:t>
            </a:r>
            <a:endParaRPr b="0" lang="en-US" sz="2000" spc="-1" strike="noStrike">
              <a:solidFill>
                <a:srgbClr val="ffffff"/>
              </a:solidFill>
              <a:latin typeface="Century Gothic"/>
            </a:endParaRPr>
          </a:p>
        </p:txBody>
      </p:sp>
      <p:pic>
        <p:nvPicPr>
          <p:cNvPr id="330" name="Picture 2" descr="http://www.infinitydancetulsa.com/wordpress/wp-content/gallery/2-infinity-dance-academy-2014/needle-releve-dance-shot-infinity-tulsa.jpg"/>
          <p:cNvPicPr/>
          <p:nvPr/>
        </p:nvPicPr>
        <p:blipFill>
          <a:blip r:embed="rId1"/>
          <a:stretch/>
        </p:blipFill>
        <p:spPr>
          <a:xfrm>
            <a:off x="5148360" y="1557360"/>
            <a:ext cx="3233520" cy="484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200" spc="-1" strike="noStrike">
              <a:solidFill>
                <a:srgbClr val="ff5c9c"/>
              </a:solidFill>
              <a:latin typeface="Century Gothic"/>
            </a:endParaRPr>
          </a:p>
        </p:txBody>
      </p:sp>
      <p:sp>
        <p:nvSpPr>
          <p:cNvPr id="33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17bbfd"/>
                </a:solidFill>
                <a:uFillTx/>
                <a:latin typeface="Century Gothic"/>
                <a:hlinkClick r:id="rId1"/>
              </a:rPr>
              <a:t>http://www.runnersworld.com/tag/achilles-tendiniti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17bbfd"/>
                </a:solidFill>
                <a:uFillTx/>
                <a:latin typeface="Century Gothic"/>
                <a:hlinkClick r:id="rId2"/>
              </a:rPr>
              <a:t>http://www.livestrong.com/article/548392-what-muscles-does-dancing-ballet-strengthe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30T23:45:28Z</dcterms:created>
  <dc:creator>e17236</dc:creator>
  <dc:description/>
  <dc:language>en-US</dc:language>
  <cp:lastModifiedBy>ICT</cp:lastModifiedBy>
  <dcterms:modified xsi:type="dcterms:W3CDTF">2014-10-08T15:33:46Z</dcterms:modified>
  <cp:revision>36</cp:revision>
  <dc:subject/>
  <dc:title>Dance </dc:title>
</cp:coreProperties>
</file>